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D795-A621-4CDC-A981-6C6AFCAC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E64-0692-4A67-A530-DC3A5935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A96-26E9-4773-B916-C950DB06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286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3334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5238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9286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3334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D33-96FA-4FB4-8C4F-CE3E9BFA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CD73-F1CA-4302-A1C4-9FEFBFE7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EFE7-4483-4030-9413-8DDF3DC2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62A6-6CDE-46DD-A773-4AC09B7D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E94C-3F59-4C64-857D-360B2C71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1A2F-4B1D-4363-BD63-AC38F844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61760" y="1965240"/>
            <a:ext cx="8636040" cy="894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68A7-56CF-4E26-9528-530F3A6F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EB8D-73B1-490D-AD49-5A3E2B88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4BC-A8FF-4501-B4E9-3AAF98B1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AFD2-07AA-48DC-BDFE-F2E8B26D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FBF8-67C8-4794-8491-C1431D86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B79A-7C0C-44E9-ACA2-5BF89540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88AD-6BEB-426D-80C2-3634F7A6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286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33480" y="431748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5238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9286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33480" y="5335200"/>
            <a:ext cx="22899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C018-9667-43F6-9D79-469864F3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92F-FAE4-4661-96F5-D6357969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D7CF-B4FD-4C15-826E-DD6572E7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ADD1-1577-4E58-90A7-3C6641A1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761760" y="1965240"/>
            <a:ext cx="8636040" cy="8942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FEB2-E22D-4957-8484-C824E217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26C6-9BA8-4C23-8649-BDA235A0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8160" y="533520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3B8-A562-46B2-AAC3-CD83B878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8160" y="4317480"/>
            <a:ext cx="347040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523880" y="5335200"/>
            <a:ext cx="7112160" cy="9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E41-6F3A-4205-AE8F-5717E757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709720"/>
            <a:ext cx="10159560" cy="4495680"/>
            <a:chOff x="0" y="2709720"/>
            <a:chExt cx="10159560" cy="4495680"/>
          </a:xfrm>
        </p:grpSpPr>
        <p:sp>
          <p:nvSpPr>
            <p:cNvPr id="1" name=""/>
            <p:cNvSpPr/>
            <p:nvPr/>
          </p:nvSpPr>
          <p:spPr>
            <a:xfrm rot="20175000">
              <a:off x="3741120" y="4572000"/>
              <a:ext cx="5418720" cy="67680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699440"/>
              <a:ext cx="4740840" cy="215856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24520" y="2709720"/>
              <a:ext cx="4235040" cy="217296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688440" y="2709720"/>
              <a:ext cx="3471120" cy="134424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348240" y="4369320"/>
              <a:ext cx="327960" cy="21132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665400" y="4221000"/>
              <a:ext cx="326160" cy="21168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71240" y="3238560"/>
              <a:ext cx="930960" cy="48492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483600" y="3554640"/>
              <a:ext cx="1271880" cy="53928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23080" y="3333960"/>
              <a:ext cx="4232880" cy="155376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771240" y="3270600"/>
              <a:ext cx="1017360" cy="45468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396000" y="2896560"/>
              <a:ext cx="864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771240" y="3048480"/>
              <a:ext cx="1262520" cy="67536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090480" y="4005720"/>
              <a:ext cx="560520" cy="3970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688640"/>
              <a:ext cx="4577040" cy="164520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5281200"/>
              <a:ext cx="4803120" cy="192420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50796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728172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4ED5097B-321C-41E0-AC00-DD52D0E5FE04}" type="slidenum">
              <a:rPr b="0" lang="en-US" sz="13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507960" y="1777680"/>
            <a:ext cx="9144000" cy="499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25480" indent="-317520">
              <a:spcBef>
                <a:spcPts val="901"/>
              </a:spcBef>
              <a:buClr>
                <a:srgbClr val="ffffff"/>
              </a:buClr>
              <a:buFont typeface="Garamond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270080" indent="-254160">
              <a:spcBef>
                <a:spcPts val="901"/>
              </a:spcBef>
              <a:buClr>
                <a:srgbClr val="b9efee"/>
              </a:buClr>
              <a:buFont typeface="Garamond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778040" indent="-254160">
              <a:spcBef>
                <a:spcPts val="901"/>
              </a:spcBef>
              <a:buClr>
                <a:srgbClr val="ffffff"/>
              </a:buClr>
              <a:buFont typeface="Garamond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286000" indent="-254160">
              <a:spcBef>
                <a:spcPts val="901"/>
              </a:spcBef>
              <a:buClr>
                <a:srgbClr val="ccff66"/>
              </a:buClr>
              <a:buFont typeface="Garamond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709720"/>
            <a:ext cx="10159560" cy="4495680"/>
            <a:chOff x="0" y="2709720"/>
            <a:chExt cx="10159560" cy="4495680"/>
          </a:xfrm>
        </p:grpSpPr>
        <p:sp>
          <p:nvSpPr>
            <p:cNvPr id="58" name=""/>
            <p:cNvSpPr/>
            <p:nvPr/>
          </p:nvSpPr>
          <p:spPr>
            <a:xfrm rot="20175000">
              <a:off x="3741120" y="4572000"/>
              <a:ext cx="5418720" cy="67680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699440"/>
              <a:ext cx="4740840" cy="215856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24520" y="2709720"/>
              <a:ext cx="4235040" cy="217296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88440" y="2709720"/>
              <a:ext cx="3471120" cy="134424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48240" y="4369320"/>
              <a:ext cx="327960" cy="21132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65400" y="4221000"/>
              <a:ext cx="326160" cy="21168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71240" y="3238560"/>
              <a:ext cx="930960" cy="48492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83600" y="3554640"/>
              <a:ext cx="1271880" cy="53928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23080" y="3333960"/>
              <a:ext cx="4232880" cy="155376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71240" y="3270600"/>
              <a:ext cx="1017360" cy="45468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396000" y="2896560"/>
              <a:ext cx="864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71240" y="3048480"/>
              <a:ext cx="1262520" cy="67536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0480" y="4005720"/>
              <a:ext cx="560520" cy="3970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688640"/>
              <a:ext cx="4577040" cy="164520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5281200"/>
              <a:ext cx="4803120" cy="192420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1965240"/>
            <a:ext cx="8636040" cy="1928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 anchorCtr="1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50796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728172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0B276F95-4EC0-4586-9B52-A249480941E2}" type="slidenum">
              <a:rPr b="0" lang="en-US" sz="13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0" algn="ctr">
              <a:spcBef>
                <a:spcPts val="77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015920" algn="ctr">
              <a:spcBef>
                <a:spcPts val="675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3" marL="1523880" algn="ctr">
              <a:spcBef>
                <a:spcPts val="550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4" marL="2031840" algn="ctr">
              <a:spcBef>
                <a:spcPts val="550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5" marL="2031840">
              <a:spcBef>
                <a:spcPts val="5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6" marL="2031840">
              <a:spcBef>
                <a:spcPts val="5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com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9360" y="1219320"/>
            <a:ext cx="98805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698040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ahoma"/>
              </a:rPr>
              <a:t>Quick! Create a Website with a Wiki!</a:t>
            </a:r>
            <a:endParaRPr b="1" lang="en-US" sz="6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9000" y="3505320"/>
            <a:ext cx="965196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aren Marshal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ructional Technology Consulta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honing County ES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coe_km@access-k12.or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ttp://kmworkshops.wikispaces.com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6400" y="72684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Take A Wiki-Walkthrough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866880" y="3184560"/>
            <a:ext cx="82105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 u="sng">
                <a:solidFill>
                  <a:srgbClr val="ff0000"/>
                </a:solidFill>
                <a:uFillTx/>
                <a:latin typeface="Tahoma"/>
              </a:rPr>
              <a:t>Sample Wikis</a:t>
            </a:r>
            <a:endParaRPr b="0" lang="en-US" sz="5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6400" y="72684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ahoma"/>
              </a:rPr>
              <a:t>Thinking Wiki</a:t>
            </a:r>
            <a:endParaRPr b="1" lang="en-US" sz="6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806400" y="2251080"/>
            <a:ext cx="8547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What are you doing in your school situation now that might be done more effectively with a wiki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06400" y="72684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ahoma"/>
              </a:rPr>
              <a:t>Add or Edit Content</a:t>
            </a:r>
            <a:endParaRPr b="1" lang="en-US" sz="6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87320" y="1773000"/>
            <a:ext cx="8547120" cy="36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Gather information from your class about our great state of </a:t>
            </a:r>
            <a:r>
              <a:rPr b="0" lang="en-US" sz="6000" spc="-1" strike="noStrike" u="sng">
                <a:solidFill>
                  <a:srgbClr val="dddddd"/>
                </a:solidFill>
                <a:uFillTx/>
                <a:latin typeface="Tahoma"/>
              </a:rPr>
              <a:t>Ohio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08160" y="1143000"/>
            <a:ext cx="78105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Features 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for 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Educators 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at 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Wikispace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 rot="20715000">
            <a:off x="583920" y="990360"/>
            <a:ext cx="316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011560" y="4273560"/>
            <a:ext cx="491040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How can they make certain their online site is </a:t>
            </a:r>
            <a:r>
              <a:rPr b="1" lang="en-US" sz="3100" spc="-1" strike="noStrike">
                <a:solidFill>
                  <a:srgbClr val="ffffff"/>
                </a:solidFill>
                <a:latin typeface="Trebuchet MS"/>
              </a:rPr>
              <a:t>off limits to child predators?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1360" y="623880"/>
            <a:ext cx="499428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Teachers wants to be sure their students are protected from the wider Internet.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55680" y="1371600"/>
            <a:ext cx="4543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40" y="304560"/>
            <a:ext cx="1007424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achers can control who sees their wiki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12760" y="3560760"/>
            <a:ext cx="97344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achers can choose who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icipates</a:t>
            </a: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16080" y="1015920"/>
            <a:ext cx="5811840" cy="20113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793960" y="4232160"/>
            <a:ext cx="457200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816520" y="482760"/>
            <a:ext cx="3552840" cy="58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Teachers want to make certain their students act appropriately on line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Will their students </a:t>
            </a:r>
            <a:r>
              <a:rPr b="1" lang="en-US" sz="3100" spc="-1" strike="noStrike">
                <a:solidFill>
                  <a:srgbClr val="ffffff"/>
                </a:solidFill>
                <a:latin typeface="Trebuchet MS"/>
              </a:rPr>
              <a:t>write offensive comments</a:t>
            </a: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How can they </a:t>
            </a:r>
            <a:r>
              <a:rPr b="1" lang="en-US" sz="3100" spc="-1" strike="noStrike">
                <a:solidFill>
                  <a:srgbClr val="ffffff"/>
                </a:solidFill>
                <a:latin typeface="Trebuchet MS"/>
              </a:rPr>
              <a:t>monitor</a:t>
            </a:r>
            <a:r>
              <a:rPr b="0" lang="en-US" sz="3100" spc="-1" strike="noStrike">
                <a:solidFill>
                  <a:srgbClr val="ffffff"/>
                </a:solidFill>
                <a:latin typeface="Trebuchet MS"/>
              </a:rPr>
              <a:t> their students activity?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2920" y="1481040"/>
            <a:ext cx="509112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56480" y="1523520"/>
            <a:ext cx="3216240" cy="39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 have a history of every edit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 can be notified of every chang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68120" y="338040"/>
            <a:ext cx="660564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375240" y="3200400"/>
            <a:ext cx="3311640" cy="3375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985080" y="4495680"/>
            <a:ext cx="220320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NO A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9680" y="380880"/>
            <a:ext cx="100202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kis are Free and Easy to set 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32040" y="1828800"/>
            <a:ext cx="4891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-12 Teache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 rot="20659200">
            <a:off x="736200" y="1523520"/>
            <a:ext cx="3162240" cy="914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12880" y="3479760"/>
            <a:ext cx="483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kispaces is giving away 100,000 free wikis to educa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370240" y="1778040"/>
            <a:ext cx="5314680" cy="5376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6400" y="21888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ahoma"/>
              </a:rPr>
              <a:t>What is Web 2.0?</a:t>
            </a:r>
            <a:endParaRPr b="1" lang="en-US" sz="6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429000" y="1481040"/>
            <a:ext cx="2158920" cy="1346400"/>
            <a:chOff x="3429000" y="1481040"/>
            <a:chExt cx="2158920" cy="1346400"/>
          </a:xfrm>
        </p:grpSpPr>
        <p:pic>
          <p:nvPicPr>
            <p:cNvPr id="167" name="" descr=""/>
            <p:cNvPicPr/>
            <p:nvPr/>
          </p:nvPicPr>
          <p:blipFill>
            <a:blip r:embed="rId3"/>
            <a:stretch/>
          </p:blipFill>
          <p:spPr>
            <a:xfrm>
              <a:off x="3429000" y="1481040"/>
              <a:ext cx="2158920" cy="134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4"/>
            <a:stretch/>
          </p:blipFill>
          <p:spPr>
            <a:xfrm>
              <a:off x="3746520" y="1608120"/>
              <a:ext cx="1419120" cy="47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"/>
          <p:cNvGrpSpPr/>
          <p:nvPr/>
        </p:nvGrpSpPr>
        <p:grpSpPr>
          <a:xfrm>
            <a:off x="3238560" y="3270240"/>
            <a:ext cx="2085840" cy="1566720"/>
            <a:chOff x="3238560" y="3270240"/>
            <a:chExt cx="2085840" cy="1566720"/>
          </a:xfrm>
        </p:grpSpPr>
        <p:pic>
          <p:nvPicPr>
            <p:cNvPr id="170" name="" descr=""/>
            <p:cNvPicPr/>
            <p:nvPr/>
          </p:nvPicPr>
          <p:blipFill>
            <a:blip r:embed="rId5"/>
            <a:stretch/>
          </p:blipFill>
          <p:spPr>
            <a:xfrm>
              <a:off x="3238560" y="3270240"/>
              <a:ext cx="2085840" cy="15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6"/>
            <a:stretch/>
          </p:blipFill>
          <p:spPr>
            <a:xfrm>
              <a:off x="3619440" y="4105440"/>
              <a:ext cx="1471680" cy="47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9042480" y="6858000"/>
            <a:ext cx="609480" cy="533520"/>
          </a:xfrm>
          <a:prstGeom prst="rightArrow">
            <a:avLst>
              <a:gd name="adj1" fmla="val 50000"/>
              <a:gd name="adj2" fmla="val 28559"/>
            </a:avLst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06400" y="387360"/>
            <a:ext cx="85471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ahoma"/>
              </a:rPr>
              <a:t>Goals</a:t>
            </a:r>
            <a:endParaRPr b="1" lang="en-US" sz="6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06400" y="1742760"/>
            <a:ext cx="8717040" cy="54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spcBef>
                <a:spcPts val="1100"/>
              </a:spcBef>
              <a:spcAft>
                <a:spcPts val="2200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cognize that wikis are a website with an edit butt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5000"/>
              </a:lnSpc>
              <a:spcBef>
                <a:spcPts val="1100"/>
              </a:spcBef>
              <a:spcAft>
                <a:spcPts val="2200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dentify wikis as a new learning format that creates interactive learning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5000"/>
              </a:lnSpc>
              <a:spcBef>
                <a:spcPts val="1100"/>
              </a:spcBef>
              <a:spcAft>
                <a:spcPts val="2200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reate a wik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369720"/>
            <a:ext cx="2625840" cy="2075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946240" y="609480"/>
            <a:ext cx="6705720" cy="6496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813880" y="4267080"/>
            <a:ext cx="761760" cy="838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51160" y="5638680"/>
            <a:ext cx="1143000" cy="609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32440" y="5791320"/>
            <a:ext cx="762120" cy="914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03640" y="609480"/>
            <a:ext cx="9907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6240" y="4876920"/>
            <a:ext cx="762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60640" y="4800600"/>
            <a:ext cx="533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89440" y="5181480"/>
            <a:ext cx="129564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5680" y="6781680"/>
            <a:ext cx="914400" cy="60984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So, What is Wiki?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574640" y="609588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ff"/>
                </a:solidFill>
                <a:uFillTx/>
                <a:latin typeface="Tahoma"/>
              </a:rPr>
              <a:t>Wikis in Plain English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213680" y="19044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31640" y="2133720"/>
            <a:ext cx="932976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507960" indent="-393480">
              <a:lnSpc>
                <a:spcPct val="100000"/>
              </a:lnSpc>
              <a:spcBef>
                <a:spcPts val="1536"/>
              </a:spcBef>
              <a:spcAft>
                <a:spcPts val="1536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Hawaiian word meaning quick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1" marL="507960" indent="-393480">
              <a:lnSpc>
                <a:spcPct val="100000"/>
              </a:lnSpc>
              <a:spcBef>
                <a:spcPts val="1536"/>
              </a:spcBef>
              <a:spcAft>
                <a:spcPts val="1536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Started by Ward Cunningham (1995)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1" marL="507960" indent="-393480">
              <a:lnSpc>
                <a:spcPct val="100000"/>
              </a:lnSpc>
              <a:spcBef>
                <a:spcPts val="1536"/>
              </a:spcBef>
              <a:spcAft>
                <a:spcPts val="1536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Quick web page creation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  <a:p>
            <a:pPr lvl="1" marL="507960" indent="-393480">
              <a:lnSpc>
                <a:spcPct val="100000"/>
              </a:lnSpc>
              <a:spcBef>
                <a:spcPts val="1536"/>
              </a:spcBef>
              <a:spcAft>
                <a:spcPts val="1536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Edited by multiple people</a:t>
            </a:r>
            <a:endParaRPr b="0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06400" y="30456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One of the Web 2.0 Tool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36960" y="1447920"/>
            <a:ext cx="2129040" cy="2160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46440" y="2209680"/>
            <a:ext cx="1000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1640" y="6553080"/>
            <a:ext cx="874404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 website with an "edit" butt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908760" y="5638680"/>
            <a:ext cx="2122560" cy="700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V="1">
            <a:off x="6451560" y="6171840"/>
            <a:ext cx="76212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88840" y="3809880"/>
            <a:ext cx="848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llaborative online document whose content can be edited by anyone who has access to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6400" y="30456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ahoma"/>
              </a:rPr>
              <a:t>Most Famous</a:t>
            </a:r>
            <a:r>
              <a:rPr b="0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800" spc="-1" strike="noStrike" u="sng">
                <a:solidFill>
                  <a:srgbClr val="00ff99"/>
                </a:solidFill>
                <a:uFillTx/>
                <a:latin typeface="Tahoma"/>
                <a:hlinkClick r:id="rId2"/>
              </a:rPr>
              <a:t>Wiki</a:t>
            </a:r>
            <a:endParaRPr b="1" lang="en-US" sz="6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193760" y="1523880"/>
            <a:ext cx="792468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06400" y="280800"/>
            <a:ext cx="8548560" cy="116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ahoma"/>
              </a:rPr>
              <a:t>Power of the Wiki</a:t>
            </a:r>
            <a:r>
              <a:rPr b="0" lang="en-US" sz="6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6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4680" y="2209320"/>
            <a:ext cx="947412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oups can collaboratively work on the content of the website using  a standard web browse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ability to keep track of the history of a document as it is revise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920" y="391680"/>
            <a:ext cx="8707680" cy="17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at can be inserted into a Wiki?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45680" y="2276280"/>
            <a:ext cx="7162920" cy="48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0000"/>
              </a:lnSpc>
              <a:spcBef>
                <a:spcPts val="1026"/>
              </a:spcBef>
              <a:spcAft>
                <a:spcPts val="1026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1026"/>
              </a:spcBef>
              <a:spcAft>
                <a:spcPts val="1026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Images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1026"/>
              </a:spcBef>
              <a:spcAft>
                <a:spcPts val="1026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Videos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1026"/>
              </a:spcBef>
              <a:spcAft>
                <a:spcPts val="1026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Documents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1026"/>
              </a:spcBef>
              <a:spcAft>
                <a:spcPts val="1026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1026"/>
              </a:spcBef>
              <a:spcAft>
                <a:spcPts val="1026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"Widgets"</a:t>
            </a:r>
            <a:endParaRPr b="0" lang="en-US" sz="4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6400" y="280800"/>
            <a:ext cx="8548560" cy="116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Educational Wiki Ideas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41120" y="1676160"/>
            <a:ext cx="79246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Class Website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Class Study guides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Data Collection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Reference Guide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FAQs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Virtually All Collaborative Projects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Many, many more..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MCESC examples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6400" y="726840"/>
            <a:ext cx="854712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ahoma"/>
              </a:rPr>
              <a:t>Before Getting Started</a:t>
            </a:r>
            <a:endParaRPr b="1" lang="en-US" sz="6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06400" y="2251080"/>
            <a:ext cx="854712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ceptable Use Policy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iki Consent Form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pyright Inform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507960" indent="-393480">
              <a:lnSpc>
                <a:spcPct val="95000"/>
              </a:lnSpc>
              <a:buClr>
                <a:srgbClr val="ffffff"/>
              </a:buClr>
              <a:buFont typeface="Tahoma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assroom Wiki Rul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mcoe_saa</cp:lastModifiedBy>
  <dcterms:modified xsi:type="dcterms:W3CDTF">2008-05-04T13:23:24Z</dcterms:modified>
  <cp:revision>24</cp:revision>
  <dc:subject/>
  <dc:title>PowerPoint Presentation</dc:title>
</cp:coreProperties>
</file>